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163-4CD3-40A9-A070-09871CB2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14B-0875-4CB4-AEFD-63F3B3E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B90-F625-47C5-985E-0E0E7BC9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529-32DE-4B44-A8B5-B87B7B3D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5DC-863E-4D24-82BD-419FB2CC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D85-86DE-4E62-B486-B2BE0536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08BF-508D-4250-B1C2-001DCF30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5CA1-AFBB-4A86-AB7B-BB42F081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D3D-5C6E-408D-99D6-7EAC0D3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6B29-DAB2-46B6-B93B-AB3072F3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1FF7-212A-460D-BAE6-676C059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5EC-D439-4565-947C-DBF5FC0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53ED-7D76-49FD-AFE0-C02E2E6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4F6-4947-4623-8FBF-899FFEB8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9DE4-689A-4A90-BF50-953E89E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E74-0127-4322-AF72-C7C975C5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ECFC-9598-49CF-AC9A-0B87CCEF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203-92E1-430C-8D12-C64A712C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801-DD24-48B9-BB9C-EAE05C56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DA7-B313-42BC-A132-F57833E0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F3F-A90A-4D49-8FC7-94E3EFEE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F16-E932-4C39-9D63-9B34A91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68F-68E1-4413-BAF5-E4488EE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1B7-1E6B-4565-B903-C36FAB5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9DDC-839B-4FBB-B296-B40ABCE2D772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64F-E50F-4643-ACC3-59AD16AFAEFD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D42-02E9-4E61-BC1E-FF508C28EB8A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2E4-922D-476F-85D5-8176299B985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1532;1&#31456;%20%20%20%20Visual%20FoxPro%206.0%20&#27010;&#36848;.ppt" TargetMode="External"/><Relationship Id="rId3" Type="http://schemas.openxmlformats.org/officeDocument/2006/relationships/hyperlink" Target="file:///&#31532;1&#31456;%20%20%20%20Visual%20FoxPro%206.0%20&#27010;&#36848;.ppt" TargetMode="External"/><Relationship Id="rId4" Type="http://schemas.openxmlformats.org/officeDocument/2006/relationships/hyperlink" Target="file:///&#31532;1&#31456;%20%20%20%20Visual%20FoxPro%206.0%20&#27010;&#36848;.ppt" TargetMode="External"/><Relationship Id="rId5" Type="http://schemas.openxmlformats.org/officeDocument/2006/relationships/hyperlink" Target="file:///&#31532;2&#31456;%20VFP&#30340;&#22522;&#26412;&#25805;&#20316;&#26041;&#27861;.ppt" TargetMode="External"/><Relationship Id="rId6" Type="http://schemas.openxmlformats.org/officeDocument/2006/relationships/hyperlink" Target="file:///&#31532;2&#31456;%20VFP&#30340;&#22522;&#26412;&#25805;&#20316;&#26041;&#27861;.ppt" TargetMode="External"/><Relationship Id="rId7" Type="http://schemas.openxmlformats.org/officeDocument/2006/relationships/hyperlink" Target="file:///&#31532;2&#31456;%20VFP&#30340;&#22522;&#26412;&#25805;&#20316;&#26041;&#27861;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mp5253" descr=""/>
          <p:cNvPicPr/>
          <p:nvPr/>
        </p:nvPicPr>
        <p:blipFill>
          <a:blip r:embed="rId2"/>
          <a:stretch/>
        </p:blipFill>
        <p:spPr>
          <a:xfrm>
            <a:off x="0" y="0"/>
            <a:ext cx="9245520" cy="699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19520" y="44956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  <a:ea typeface="隶书"/>
              </a:rPr>
              <a:t>荆门职业技术学院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  <a:ea typeface="隶书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  <a:ea typeface="隶书"/>
              </a:rPr>
              <a:t>黎能武    制作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076960" cy="552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Visual FoxPro 6.0</a:t>
            </a:r>
            <a:r>
              <a:rPr b="0" lang="zh-CN" sz="60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程序设计</a:t>
            </a:r>
            <a:endParaRPr b="0" lang="en-US" sz="6000" spc="1" strike="noStrike">
              <a:ln w="158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6EE6-B4A8-4541-A627-F4CBCA3A92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A3EEE3F-561B-4F43-86C4-018A3DE5E23A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52480" y="609480"/>
            <a:ext cx="577548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第1章 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VFP6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概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第2章 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VFP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的基本操作方法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利用项目管理器设计数据库和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数据的检索、统计与多工作区操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VFP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程序设计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查询与视图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VFP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表单设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报表、标签设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VFP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菜单设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利用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PI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设计应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多用户与共享技术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附         录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7240" y="1306440"/>
            <a:ext cx="8506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目     录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621-5F20-4ACE-9F3A-F8E02E1D75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07B1F-C709-4395-B543-313299D5625E}" type="datetime1">
              <a:rPr lang="en-US"/>
              <a:t>07/31/26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03:51:16Z</dcterms:created>
  <dc:creator>黎能武</dc:creator>
  <dc:description/>
  <dc:language>en-US</dc:language>
  <cp:lastModifiedBy>lsj</cp:lastModifiedBy>
  <dcterms:modified xsi:type="dcterms:W3CDTF">2001-09-25T13:41:40Z</dcterms:modified>
  <cp:revision>51</cp:revision>
  <dc:subject/>
  <dc:title>Visual FoxPro 6.0程序设计演示文稿</dc:title>
</cp:coreProperties>
</file>